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D38B-A6A9-4AAA-A32B-6B10B40D0E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FA24-2E4F-478D-B12E-E43331BDFF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EBA-FF95-4146-95B0-481B1B00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8DC-A69D-47E6-B059-5124316C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927-0A7E-4134-8186-FD166A94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DF0-132E-4CE1-A26A-0B427AFA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04CE-BCAC-4341-9971-AA98AAAA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DB7B-D16A-4953-A45A-971F8237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F126-88BA-46C9-9F9E-38813F4A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3F0E-F538-4757-8E39-47C103BF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B73D-C425-49EC-BF7F-E4DEDCE0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DB5D-0A34-482B-8CB5-776685BE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B5B4-18EA-4C17-A8F4-49491868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950-3850-43CE-BF16-D3125ED8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FE6C-4D7A-46F4-95E8-D8B2C1E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5D07-FD3F-445E-A0B0-55105035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6D3D-D1F0-4372-B8BC-ECFA53B8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6F12-2A9D-4A70-9D74-58B1E0E5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3714-A42C-43E4-B4AE-5A0F0182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589-4FC4-4CA3-8FA8-2603B3D9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6DA-B668-4244-90B3-ADE43232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7BD-7A79-483A-BBBD-0D3A4F4E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4ED-CC24-4F7E-B0C6-122EC892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E22-9734-4A69-8B75-B717CDD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E34-C73D-42E5-B06E-50CB0358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843-209B-47C2-BFB1-1248D2FB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44C8-EE62-4B69-8C5B-E49A1BAB0D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E00B-49E9-4AAF-A8D9-1AA89957CC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717560"/>
            <a:ext cx="7921440" cy="1152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ПРОФИЛАКТИКА ЖЕСТОКОГО ОБРАЩЕНИЕ С ДЕТЬМИ В СЕМЬ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9640" y="2852280"/>
            <a:ext cx="81360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одительское собр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i05"/>
          <p:cNvPicPr/>
          <p:nvPr/>
        </p:nvPicPr>
        <p:blipFill>
          <a:blip r:embed="rId1"/>
          <a:stretch/>
        </p:blipFill>
        <p:spPr>
          <a:xfrm>
            <a:off x="5711760" y="3425760"/>
            <a:ext cx="3432240" cy="3432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539640" y="549360"/>
            <a:ext cx="81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УНИЦИПАЛЬНОЕ БЮДЖЕТНОЕ ОБЩЕОБРАЗОВАТЕЛЬНОЕ УЧРЕЖДЕНИЕ «СРЕДНЯЯ ОБЩЕОБРАЗОВАТЕЛЬНАЯ ШКОЛА № 104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9640" y="4365720"/>
            <a:ext cx="381636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-психолог Елисеев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лия Юр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СЕКСУАЛЬНОЕ насилие над деть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аски, ощупывание, целование, прикосновение к интимным местам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матривание половых органов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уждение прикасаться к чужим половым орган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нография (принуждение к рассматриванию проноснимк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стурбация в присутствии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ц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насил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нудительная проститу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i09"/>
          <p:cNvPicPr/>
          <p:nvPr/>
        </p:nvPicPr>
        <p:blipFill>
          <a:blip r:embed="rId1"/>
          <a:stretch/>
        </p:blipFill>
        <p:spPr>
          <a:xfrm>
            <a:off x="7236000" y="1628640"/>
            <a:ext cx="1511280" cy="1206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J:\Жест обращение\i26.jpeg"/>
          <p:cNvPicPr/>
          <p:nvPr/>
        </p:nvPicPr>
        <p:blipFill>
          <a:blip r:embed="rId2"/>
          <a:stretch/>
        </p:blipFill>
        <p:spPr>
          <a:xfrm rot="809400">
            <a:off x="6803640" y="4581000"/>
            <a:ext cx="1658880" cy="16592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68360" y="404640"/>
            <a:ext cx="6781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изнаки перенесенного сексуального насил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Ласки, ощупывание, целование, прикосновение к интимным местам ребен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Рассматривание половых органов ребен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нуждение прикасаться к чужим половым органам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орнография (принуждение к рассматриванию проноснимков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Мастурбация в присутствии ребенк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Инцес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Изнасилова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нудительная проституц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50920" y="260280"/>
            <a:ext cx="504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42480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125360"/>
            <a:ext cx="81532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cc66"/>
                </a:solidFill>
                <a:latin typeface="Times New Roman"/>
              </a:rPr>
              <a:t>Последствия перенесенного сексуального насил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Ребенок обнаруживает странные, слишком сложные или необычайные сексуальные познания или действия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Может сексуально приставать к детям и взрослы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Может жаловаться на зуд, боль в области генитали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Может заболеть болезнями, передающимися половым путе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Девочка может забеременеть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590364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imes New Roman"/>
              </a:rPr>
              <a:t>ПСИХОЛОГИЧЕСКОЕ НАСИЛИ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– эмоционально дурное обращение с детьми, умышленное унижение чести и достоинства ребенка, моральные угрозы, оскорбления, шантаж и т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ризнаки психологического наси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талкивание ребенка родителями, неприятие его, отсутствие любви и привязанности к ребен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нижение достоинства, угрозы наси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убое отношение, постоянная жестокая критика ребенка, оскорбление с использованием ненормативной лекс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убличное унижение, формирование у него чувства стыда и вины за проявление естественных эмоций (страх, плач, гнев и т.д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ершение в присутствии ребенка насилия по отношению к супругу или другим дет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чинение боли домашним животным с целью запугать ребен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21"/>
          <p:cNvPicPr/>
          <p:nvPr/>
        </p:nvPicPr>
        <p:blipFill>
          <a:blip r:embed="rId1"/>
          <a:stretch/>
        </p:blipFill>
        <p:spPr>
          <a:xfrm rot="986400">
            <a:off x="7019640" y="476280"/>
            <a:ext cx="1763640" cy="14079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324000" y="333360"/>
            <a:ext cx="424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8" descr="vio"/>
          <p:cNvPicPr/>
          <p:nvPr/>
        </p:nvPicPr>
        <p:blipFill>
          <a:blip r:embed="rId2"/>
          <a:stretch/>
        </p:blipFill>
        <p:spPr>
          <a:xfrm>
            <a:off x="6300720" y="2205000"/>
            <a:ext cx="2678040" cy="2174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Papa-krichit-na-doch"/>
          <p:cNvPicPr/>
          <p:nvPr/>
        </p:nvPicPr>
        <p:blipFill>
          <a:blip r:embed="rId3"/>
          <a:stretch/>
        </p:blipFill>
        <p:spPr>
          <a:xfrm>
            <a:off x="6227640" y="4724280"/>
            <a:ext cx="2700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Отсутствие психологической поддержки 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со стороны родителей приводит к различным нарушения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8000" y="1856880"/>
            <a:ext cx="88567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:\Жест обращение\i6.jpeg"/>
          <p:cNvPicPr/>
          <p:nvPr/>
        </p:nvPicPr>
        <p:blipFill>
          <a:blip r:embed="rId1"/>
          <a:stretch/>
        </p:blipFill>
        <p:spPr>
          <a:xfrm rot="21103800">
            <a:off x="539640" y="1773360"/>
            <a:ext cx="3141720" cy="20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infoportalrf001-47"/>
          <p:cNvPicPr/>
          <p:nvPr/>
        </p:nvPicPr>
        <p:blipFill>
          <a:blip r:embed="rId2"/>
          <a:stretch/>
        </p:blipFill>
        <p:spPr>
          <a:xfrm>
            <a:off x="4859280" y="1700280"/>
            <a:ext cx="4033800" cy="3022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0032-013-"/>
          <p:cNvPicPr/>
          <p:nvPr/>
        </p:nvPicPr>
        <p:blipFill>
          <a:blip r:embed="rId3"/>
          <a:stretch/>
        </p:blipFill>
        <p:spPr>
          <a:xfrm>
            <a:off x="1692360" y="3789360"/>
            <a:ext cx="3024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Пренебрежение основными потребностями ребенка</a:t>
            </a:r>
            <a:r>
              <a:rPr b="0" i="1" lang="ru-RU" sz="2800" spc="-1" strike="noStrike">
                <a:solidFill>
                  <a:srgbClr val="ffcc66"/>
                </a:solidFill>
                <a:latin typeface="Times New Roman"/>
              </a:rPr>
              <a:t> -</a:t>
            </a:r>
            <a:r>
              <a:rPr b="0" i="1" lang="ru-RU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тоянно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ериодическое неисполнени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телям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л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цами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х заменяющими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их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язанност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о удовлетворени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ребност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к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азвити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боте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щ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ове, медицинско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мощ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опасности, приводяще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худшени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ояния здоровья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бенка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рушени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го развития ил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учению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вмы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633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Признаки пренебрежения нуждами ребен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ная заброшенность ребенка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правильного 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необходимой одеж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сутствие защиты, обучения, медицинского обеспечения, ухода за ребен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педикулез, дистроф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тисанитарное состояние жил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i12"/>
          <p:cNvPicPr/>
          <p:nvPr/>
        </p:nvPicPr>
        <p:blipFill>
          <a:blip r:embed="rId1"/>
          <a:stretch/>
        </p:blipFill>
        <p:spPr>
          <a:xfrm rot="655800">
            <a:off x="6876720" y="2923920"/>
            <a:ext cx="2054160" cy="14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Fome pelo mundo - fome na africa - africano faminto - 10-02-07"/>
          <p:cNvPicPr/>
          <p:nvPr/>
        </p:nvPicPr>
        <p:blipFill>
          <a:blip r:embed="rId2"/>
          <a:stretch/>
        </p:blipFill>
        <p:spPr>
          <a:xfrm rot="469200">
            <a:off x="6587640" y="4781520"/>
            <a:ext cx="25560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33000"/>
            <a:ext cx="8153280" cy="36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Взрослым очень важно понимать, насколько пагубно насилие в семье влияет на развитие ребенка, его настоящее и будущее социальное становлени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J:\Жест обращение\i28.jpeg"/>
          <p:cNvPicPr/>
          <p:nvPr/>
        </p:nvPicPr>
        <p:blipFill>
          <a:blip r:embed="rId1"/>
          <a:stretch/>
        </p:blipFill>
        <p:spPr>
          <a:xfrm>
            <a:off x="2843280" y="4941720"/>
            <a:ext cx="1347840" cy="943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J:\Жест обращение\i07.jpeg"/>
          <p:cNvPicPr/>
          <p:nvPr/>
        </p:nvPicPr>
        <p:blipFill>
          <a:blip r:embed="rId2"/>
          <a:stretch/>
        </p:blipFill>
        <p:spPr>
          <a:xfrm rot="20599800">
            <a:off x="1123560" y="4425480"/>
            <a:ext cx="1373040" cy="1866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J:\Жест обращение\7.jpeg"/>
          <p:cNvPicPr/>
          <p:nvPr/>
        </p:nvPicPr>
        <p:blipFill>
          <a:blip r:embed="rId3"/>
          <a:stretch/>
        </p:blipFill>
        <p:spPr>
          <a:xfrm>
            <a:off x="4643280" y="4221000"/>
            <a:ext cx="2135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 все времена и во всех культурах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Е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требует защиты в первую очередь в плане предупреждения жестокого обращ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енно жестокое обращение и насилие в семье – прямая причина того, что ребенок остается без семь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стокое обращение с ребенком заставляет его убегать из дома, попрошайничать на улицах, вести жизнь бездомного бродя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стокое обращение – причина того, что множество детей не учатся, болеют, умирают детьми, становятся инвалидами и никогда не чувствуют себя счастлив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J:\Родит собрание по суициду\i36.jpeg"/>
          <p:cNvPicPr/>
          <p:nvPr/>
        </p:nvPicPr>
        <p:blipFill>
          <a:blip r:embed="rId1"/>
          <a:stretch/>
        </p:blipFill>
        <p:spPr>
          <a:xfrm rot="640200">
            <a:off x="6084720" y="5071680"/>
            <a:ext cx="26434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15328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дно из первых и наиважнейших прав ребенка –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аво на семь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 Именно семейное окружение позволяет ребенку сформироваться как личность и стать подготовленным к жизни в общест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280" y="4005000"/>
            <a:ext cx="815364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Родител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естественный защитник ребенка. И если он выступает в роли обидчика, то  государственная власть имеет право действовать вместо родителей с целью защиты ребенка и его пра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J:\Родит собрание по суициду\i27.jpeg"/>
          <p:cNvPicPr/>
          <p:nvPr/>
        </p:nvPicPr>
        <p:blipFill>
          <a:blip r:embed="rId1"/>
          <a:stretch/>
        </p:blipFill>
        <p:spPr>
          <a:xfrm>
            <a:off x="7365960" y="1857240"/>
            <a:ext cx="1568520" cy="1595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src"/>
          <p:cNvPicPr/>
          <p:nvPr/>
        </p:nvPicPr>
        <p:blipFill>
          <a:blip r:embed="rId2"/>
          <a:stretch/>
        </p:blipFill>
        <p:spPr>
          <a:xfrm>
            <a:off x="4572000" y="2205000"/>
            <a:ext cx="2592360" cy="1409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1122progr_chten"/>
          <p:cNvPicPr/>
          <p:nvPr/>
        </p:nvPicPr>
        <p:blipFill>
          <a:blip r:embed="rId3"/>
          <a:stretch/>
        </p:blipFill>
        <p:spPr>
          <a:xfrm>
            <a:off x="1908000" y="2060640"/>
            <a:ext cx="2813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Самый тяжелый труд - воспитание человек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4" descr="225"/>
          <p:cNvPicPr/>
          <p:nvPr/>
        </p:nvPicPr>
        <p:blipFill>
          <a:blip r:embed="rId1"/>
          <a:stretch/>
        </p:blipFill>
        <p:spPr>
          <a:xfrm>
            <a:off x="2627280" y="3645000"/>
            <a:ext cx="3738600" cy="2303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konflikti_sposobi_resheniya-1068x710"/>
          <p:cNvPicPr/>
          <p:nvPr/>
        </p:nvPicPr>
        <p:blipFill>
          <a:blip r:embed="rId2"/>
          <a:stretch/>
        </p:blipFill>
        <p:spPr>
          <a:xfrm>
            <a:off x="5219640" y="1773360"/>
            <a:ext cx="3400560" cy="2303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воспитание-детей-960x659"/>
          <p:cNvPicPr/>
          <p:nvPr/>
        </p:nvPicPr>
        <p:blipFill>
          <a:blip r:embed="rId3"/>
          <a:stretch/>
        </p:blipFill>
        <p:spPr>
          <a:xfrm>
            <a:off x="395280" y="1773360"/>
            <a:ext cx="338472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6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Дети одинаковы, точнее, равны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Они равны и одинаковы - перед добрым и худым. Дети поначалу похожи на промокашки: впитывают в себя все, что грамотно или безобразно написано родителями. 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Альберт Лиханов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happy-children"/>
          <p:cNvPicPr/>
          <p:nvPr/>
        </p:nvPicPr>
        <p:blipFill>
          <a:blip r:embed="rId1"/>
          <a:stretch/>
        </p:blipFill>
        <p:spPr>
          <a:xfrm>
            <a:off x="250920" y="3429000"/>
            <a:ext cx="3457440" cy="273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даунтаун"/>
          <p:cNvPicPr/>
          <p:nvPr/>
        </p:nvPicPr>
        <p:blipFill>
          <a:blip r:embed="rId2"/>
          <a:stretch/>
        </p:blipFill>
        <p:spPr>
          <a:xfrm>
            <a:off x="5219640" y="4335480"/>
            <a:ext cx="36003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6664320" cy="31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Самый тяжелый труд - воспитание челове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2" descr="J:\Жест обращение\i02.jpeg"/>
          <p:cNvPicPr/>
          <p:nvPr/>
        </p:nvPicPr>
        <p:blipFill>
          <a:blip r:embed="rId1"/>
          <a:stretch/>
        </p:blipFill>
        <p:spPr>
          <a:xfrm>
            <a:off x="468360" y="1700280"/>
            <a:ext cx="2663640" cy="1942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J:\Родит собрание по суициду\i35.jpeg"/>
          <p:cNvPicPr/>
          <p:nvPr/>
        </p:nvPicPr>
        <p:blipFill>
          <a:blip r:embed="rId2"/>
          <a:stretch/>
        </p:blipFill>
        <p:spPr>
          <a:xfrm>
            <a:off x="5724360" y="1484280"/>
            <a:ext cx="276228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22"/>
          <p:cNvPicPr/>
          <p:nvPr/>
        </p:nvPicPr>
        <p:blipFill>
          <a:blip r:embed="rId3"/>
          <a:stretch/>
        </p:blipFill>
        <p:spPr>
          <a:xfrm>
            <a:off x="6804000" y="3933720"/>
            <a:ext cx="1974960" cy="1481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d1kthglphl4"/>
          <p:cNvPicPr/>
          <p:nvPr/>
        </p:nvPicPr>
        <p:blipFill>
          <a:blip r:embed="rId4"/>
          <a:stretch/>
        </p:blipFill>
        <p:spPr>
          <a:xfrm>
            <a:off x="2843280" y="2997360"/>
            <a:ext cx="3187800" cy="237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Dad-and-girl"/>
          <p:cNvPicPr/>
          <p:nvPr/>
        </p:nvPicPr>
        <p:blipFill>
          <a:blip r:embed="rId5"/>
          <a:stretch/>
        </p:blipFill>
        <p:spPr>
          <a:xfrm>
            <a:off x="539640" y="3716280"/>
            <a:ext cx="20876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54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6" descr="0017-026-"/>
          <p:cNvPicPr/>
          <p:nvPr/>
        </p:nvPicPr>
        <p:blipFill>
          <a:blip r:embed="rId1"/>
          <a:stretch/>
        </p:blipFill>
        <p:spPr>
          <a:xfrm>
            <a:off x="250920" y="3500280"/>
            <a:ext cx="4195800" cy="314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new"/>
          <p:cNvPicPr/>
          <p:nvPr/>
        </p:nvPicPr>
        <p:blipFill>
          <a:blip r:embed="rId2"/>
          <a:stretch/>
        </p:blipFill>
        <p:spPr>
          <a:xfrm>
            <a:off x="2771640" y="333360"/>
            <a:ext cx="6000840" cy="3419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395280" y="1413000"/>
            <a:ext cx="24494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я сем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28760"/>
            <a:ext cx="8153280" cy="42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силие в семье – проблема скрытая, «спрятанная».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ети не говорят об этом, т.к. не могут высказать, не понимают ненормальности явления.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зрослые не заинтересованы в разглашении такой информаци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5" descr="i15"/>
          <p:cNvPicPr/>
          <p:nvPr/>
        </p:nvPicPr>
        <p:blipFill>
          <a:blip r:embed="rId1"/>
          <a:stretch/>
        </p:blipFill>
        <p:spPr>
          <a:xfrm rot="178200">
            <a:off x="5940000" y="4723920"/>
            <a:ext cx="262728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i2"/>
          <p:cNvPicPr/>
          <p:nvPr/>
        </p:nvPicPr>
        <p:blipFill>
          <a:blip r:embed="rId2"/>
          <a:stretch/>
        </p:blipFill>
        <p:spPr>
          <a:xfrm rot="629400">
            <a:off x="420480" y="4792680"/>
            <a:ext cx="313668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153280" cy="475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зрослые не задумываются о том, что угрозы, грубость, унижение ребенка, шлепки и подзатыльники могут квалифицироваться как насилие.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аже если в результате такого обращения ребенок получает травму, то родители расценивают ее как несчастный случай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5" descr="i7"/>
          <p:cNvPicPr/>
          <p:nvPr/>
        </p:nvPicPr>
        <p:blipFill>
          <a:blip r:embed="rId1"/>
          <a:stretch/>
        </p:blipFill>
        <p:spPr>
          <a:xfrm rot="855000">
            <a:off x="6527520" y="4731840"/>
            <a:ext cx="26496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46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бенок находится в постоянном напряжении, не зная, случится ли сейчас что-нибудь, или в этот раз пронесет.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ети из таких семей тревожны, неуверенны в себе или наоборот, ведут себя нервно, агрессивно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i27"/>
          <p:cNvPicPr/>
          <p:nvPr/>
        </p:nvPicPr>
        <p:blipFill>
          <a:blip r:embed="rId1"/>
          <a:stretch/>
        </p:blipFill>
        <p:spPr>
          <a:xfrm rot="1314600">
            <a:off x="6916320" y="4954680"/>
            <a:ext cx="219564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i08"/>
          <p:cNvPicPr/>
          <p:nvPr/>
        </p:nvPicPr>
        <p:blipFill>
          <a:blip r:embed="rId2"/>
          <a:stretch/>
        </p:blipFill>
        <p:spPr>
          <a:xfrm rot="20041800">
            <a:off x="178920" y="188640"/>
            <a:ext cx="20178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678168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539640" y="1484280"/>
            <a:ext cx="7088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c66"/>
                </a:solidFill>
                <a:latin typeface="Times New Roman"/>
              </a:rPr>
              <a:t>ФИЗИЧЕСКОЕ НАСИЛИ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Избиение, истяза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Сотрясе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дары, пощечин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жигани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душе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топление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Дача алкоголя, наркотиков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Заточение с лишением еды и питья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Лишение теплой одежды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i17"/>
          <p:cNvPicPr/>
          <p:nvPr/>
        </p:nvPicPr>
        <p:blipFill>
          <a:blip r:embed="rId1"/>
          <a:stretch/>
        </p:blipFill>
        <p:spPr>
          <a:xfrm rot="318000">
            <a:off x="6767280" y="836640"/>
            <a:ext cx="2376360" cy="1467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i6"/>
          <p:cNvPicPr/>
          <p:nvPr/>
        </p:nvPicPr>
        <p:blipFill>
          <a:blip r:embed="rId2"/>
          <a:stretch/>
        </p:blipFill>
        <p:spPr>
          <a:xfrm rot="454200">
            <a:off x="6732360" y="2708280"/>
            <a:ext cx="2208240" cy="1471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smack (1)"/>
          <p:cNvPicPr/>
          <p:nvPr/>
        </p:nvPicPr>
        <p:blipFill>
          <a:blip r:embed="rId3"/>
          <a:stretch/>
        </p:blipFill>
        <p:spPr>
          <a:xfrm>
            <a:off x="6732720" y="4724280"/>
            <a:ext cx="241128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5689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c66"/>
                </a:solidFill>
                <a:latin typeface="Times New Roman"/>
              </a:rPr>
              <a:t>Признаки физического насил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ны и синяки (в разных частях тела, непонятного происхождения, имеют особую форму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жоги (чаще расположены на стопах, кистях, груди, голове. Ожоги от горячих предметов и  сигарет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кусы (отпечатки зубов по контуру зубной арк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индром тряски ребенка (если сильно трясти за плечи ребенка взад и вперед, то может произойти кровоизлияние в мозг или ушиб мозга. Наблюдается кровоизлияние в глаза, тошнота, рвота, потеря сознания, синяки на плечах в форме отпечатков пальцев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50920" y="260280"/>
            <a:ext cx="678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maxresdefault"/>
          <p:cNvPicPr/>
          <p:nvPr/>
        </p:nvPicPr>
        <p:blipFill>
          <a:blip r:embed="rId1"/>
          <a:stretch/>
        </p:blipFill>
        <p:spPr>
          <a:xfrm>
            <a:off x="6227640" y="981000"/>
            <a:ext cx="259236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2373240"/>
          <p:cNvPicPr/>
          <p:nvPr/>
        </p:nvPicPr>
        <p:blipFill>
          <a:blip r:embed="rId2"/>
          <a:stretch/>
        </p:blipFill>
        <p:spPr>
          <a:xfrm>
            <a:off x="5867280" y="2852640"/>
            <a:ext cx="2711520" cy="1806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1373199552_74664574"/>
          <p:cNvPicPr/>
          <p:nvPr/>
        </p:nvPicPr>
        <p:blipFill>
          <a:blip r:embed="rId3"/>
          <a:stretch/>
        </p:blipFill>
        <p:spPr>
          <a:xfrm>
            <a:off x="6300720" y="4724280"/>
            <a:ext cx="2592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67752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Последствия физического насил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иняки, ушибы, трав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нурез, энкопоре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ресс в развит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аз от учеб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язлив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зкий уровень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ессивное пове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прессии, беспокой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i27"/>
          <p:cNvPicPr/>
          <p:nvPr/>
        </p:nvPicPr>
        <p:blipFill>
          <a:blip r:embed="rId1"/>
          <a:stretch/>
        </p:blipFill>
        <p:spPr>
          <a:xfrm rot="615600">
            <a:off x="6011640" y="2707920"/>
            <a:ext cx="2606400" cy="18860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250920" y="260280"/>
            <a:ext cx="6781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Виды насил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2:48:20Z</dcterms:created>
  <dc:creator>Захарова</dc:creator>
  <dc:description/>
  <dc:language>en-US</dc:language>
  <cp:lastModifiedBy>СОШ 104</cp:lastModifiedBy>
  <dcterms:modified xsi:type="dcterms:W3CDTF">2022-06-22T05:29:51Z</dcterms:modified>
  <cp:revision>43</cp:revision>
  <dc:subject/>
  <dc:title>ЖЕСТОКОЕ ОБРАЩЕНИЕ С ДЕТЬМИ В СЕМЬЕ</dc:title>
</cp:coreProperties>
</file>